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F25-9862-42D2-AB11-C2E15197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053-7DF4-44A0-ABCC-1AD3FE1A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4BF-1E1D-44A3-B3C9-920D8FC4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9D8-A446-40E2-A179-886200A1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C10B-4601-4A3D-BD79-778398F5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14AF-68EA-40FE-8AF3-E25723A9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7210-5DCA-48D4-93B7-082E9330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9A61-9BD0-4493-A75C-642FD0A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ACE2-4FE2-4030-A9EF-01B5E98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200-7775-4AB4-AF0F-2D27F03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8708-8012-4C11-A4AC-3EE461C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4AA-53FD-4FD6-8BE5-6178E17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A2F-2933-4BAE-9508-A07C5B8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AE11-15AE-409B-9AFF-57B7906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E194-BF1F-422C-9B8E-12A72AE4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2BD1-4A27-404D-80E4-E85DCF4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C55-0160-4701-9124-FBB683F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EA8-FD92-4412-8575-2B86371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D49-E8E7-427A-BE9A-54233C62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B6-4E1E-4546-91F5-2F2992A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EE2-132A-49F2-B73B-E33C62D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B1E-FDB9-4283-B460-683B418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5CC-D205-4D14-A7E4-94A6E9F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007-6FF2-4174-84A9-DBD8B4C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4D8D-8B13-41FD-8D7B-C44FE1C40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99D1-2F7D-422F-AFB8-B3F00C6EAC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rebuchet MS"/>
              </a:rPr>
              <a:t>How to Make a Pie Chart to show Religious and Ethnic Breakdown of a Country</a:t>
            </a:r>
            <a:endParaRPr b="0" lang="en-US" sz="5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9: Select the chart by clicking on it.  Then, go to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Edit =&gt; Copy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10: Open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reworks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Go to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le =&gt; New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1: Click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OK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 when the dialogue box comes up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36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5334120"/>
            <a:ext cx="12952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10: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Right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click on the blank page and select </a:t>
            </a: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aste</a:t>
            </a:r>
            <a:r>
              <a:rPr b="0" i="1" lang="en-US" sz="36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2: Make sure to name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t something appropriate and save it as a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JPEG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943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09680" y="51055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5410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13: Insert the JPEG into your wikispace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 use this same process for doing the Pie Chart for ethnicities.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hange is when you are setting up excel.  Your two headings will be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Ethnic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Percen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 will put the names of the different ethnicities in your country and the percent practicing.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en it comes time to title your pie chart, title it 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Ethnic Breakdown of (Your country)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1: Open Excel.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A1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ype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Religion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B1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ype in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Percent Practicing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48608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2: In the column labeled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Religion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. List all of the religions that are practiced in your country </a:t>
            </a:r>
            <a:r>
              <a:rPr b="1" i="1" lang="en-US" sz="2400" spc="-1" strike="noStrike">
                <a:solidFill>
                  <a:srgbClr val="ffffcc"/>
                </a:solidFill>
                <a:latin typeface="Trebuchet MS"/>
              </a:rPr>
              <a:t>(if any are under 5% add them together and label them other)</a:t>
            </a:r>
            <a:endParaRPr b="0" lang="en-US" sz="24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65744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3: In the column labeled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Percent Practicing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type in the percentage (</a:t>
            </a:r>
            <a:r>
              <a:rPr b="0" i="1" lang="en-US" sz="2800" spc="-1" strike="noStrike">
                <a:solidFill>
                  <a:srgbClr val="ffffcc"/>
                </a:solidFill>
                <a:latin typeface="Trebuchet MS"/>
              </a:rPr>
              <a:t>no percent sign, only the number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) that practice that religion.  Remember, you need to add up all religions that are under 5% and put them in the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Other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category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4: Highlight all cells that contain information (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DO NOT HIGHLIGHT EMPTY CELLS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) and click on the </a:t>
            </a:r>
            <a:r>
              <a:rPr b="1" i="1" lang="en-US" sz="2800" spc="-1" strike="noStrike">
                <a:solidFill>
                  <a:srgbClr val="ffffcc"/>
                </a:solidFill>
                <a:latin typeface="Trebuchet MS"/>
              </a:rPr>
              <a:t>chart wizard</a:t>
            </a: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 button.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48608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8480" y="1828800"/>
            <a:ext cx="3049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Step 5: Choose </a:t>
            </a:r>
            <a:r>
              <a:rPr b="1" i="1" lang="en-US" sz="3600" spc="-1" strike="noStrike">
                <a:solidFill>
                  <a:srgbClr val="ffffcc"/>
                </a:solidFill>
                <a:latin typeface="Trebuchet MS"/>
              </a:rPr>
              <a:t>Pie Chart </a:t>
            </a:r>
            <a:r>
              <a:rPr b="0" lang="en-US" sz="3600" spc="-1" strike="noStrike">
                <a:solidFill>
                  <a:srgbClr val="ffffcc"/>
                </a:solidFill>
                <a:latin typeface="Trebuchet MS"/>
              </a:rPr>
              <a:t>from the list.  You can then choose either of the six types of pie charts available.</a:t>
            </a:r>
            <a:endParaRPr b="0" lang="en-US" sz="36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6324120" y="3809880"/>
            <a:ext cx="12193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62720" y="3124080"/>
            <a:ext cx="22096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00240" y="3124080"/>
            <a:ext cx="2895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00800" y="3124080"/>
            <a:ext cx="13716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86040" y="3809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00600" y="3809880"/>
            <a:ext cx="2819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895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ou can choose any of these forms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rebuchet MS"/>
              </a:rPr>
              <a:t>Step 6: When you have chosen which chart, click next twice. At this dialogue box you change the title of your pie chart.  Name it “</a:t>
            </a:r>
            <a:r>
              <a:rPr b="0" i="1" lang="en-US" sz="2800" spc="-1" strike="noStrike">
                <a:solidFill>
                  <a:srgbClr val="ffffcc"/>
                </a:solidFill>
                <a:latin typeface="Trebuchet MS"/>
              </a:rPr>
              <a:t>Religion Breakdown of (Name of your country)”</a:t>
            </a:r>
            <a:endParaRPr b="0" lang="en-US" sz="2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705720" cy="473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2666880"/>
            <a:ext cx="2438280" cy="6858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Step 7: Click on the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Data Labels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ab.  Select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Category Name 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and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Percentage</a:t>
            </a:r>
            <a:r>
              <a:rPr b="1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 Then click </a:t>
            </a:r>
            <a:r>
              <a:rPr b="1" i="1" lang="en-US" sz="3200" spc="-1" strike="noStrike">
                <a:solidFill>
                  <a:srgbClr val="ffffcc"/>
                </a:solidFill>
                <a:latin typeface="Trebuchet MS"/>
              </a:rPr>
              <a:t>Next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Step 8: Choose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As new sheet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 Then click </a:t>
            </a:r>
            <a:r>
              <a:rPr b="1" i="1" lang="en-US" sz="4000" spc="-1" strike="noStrike">
                <a:solidFill>
                  <a:srgbClr val="ffffcc"/>
                </a:solidFill>
                <a:latin typeface="Trebuchet MS"/>
              </a:rPr>
              <a:t>Finish</a:t>
            </a:r>
            <a:r>
              <a:rPr b="0" lang="en-US" sz="4000" spc="-1" strike="noStrike">
                <a:solidFill>
                  <a:srgbClr val="ffffcc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152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5:23:03Z</dcterms:created>
  <dc:creator>Irving ISD</dc:creator>
  <dc:description/>
  <dc:language>en-US</dc:language>
  <cp:lastModifiedBy>Irving ISD</cp:lastModifiedBy>
  <dcterms:modified xsi:type="dcterms:W3CDTF">2008-02-29T18:39:39Z</dcterms:modified>
  <cp:revision>5</cp:revision>
  <dc:subject/>
  <dc:title>How to Make a Pie Chart to Religion Breakdown of a Country</dc:title>
</cp:coreProperties>
</file>